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5B1E-1CE1-43EA-B5EB-8506CF156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the Solid. To 1 decimal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x 1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0 m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x 100 c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c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 x 100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m x 100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= 1 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cm3 = 1000ml = 1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= 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BD8-AB25-4350-A848-F9B1F708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8C5-0F87-4836-8B60-ECBAAA6B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AED-7BC8-4B41-96B6-AF8F9FD7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38F-1434-4C1F-912D-137E64AA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F08-0AC3-45C4-BC13-FB1A55CF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5A0-5A17-4C3A-9865-5512960D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36F-647D-4562-81F0-B1C30B06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805-7CCE-433E-AB55-169595CA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5D9-A01C-4BCE-B84B-65D12BA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B7A-984B-4691-9553-386C9690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914-7829-4760-B8A9-A40DBAE5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E5A-453E-4904-806F-32B4D9C8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9472-B332-4AEE-B17A-1D99588BC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428840" y="5643720"/>
            <a:ext cx="7286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Find the Volume of the Solid.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14720" y="20718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28960" y="3143160"/>
            <a:ext cx="5315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500720" y="4581360"/>
            <a:ext cx="40464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116000" y="1341360"/>
            <a:ext cx="61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c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m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100 m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c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c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c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0 m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 000 000 m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0 m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 000 000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3651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980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69138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1360" y="1213920"/>
            <a:ext cx="761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 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,000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ml = 1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295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188748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516720" y="18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= 5.5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Ah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552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29160" y="3071880"/>
            <a:ext cx="33289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254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700520" y="3714840"/>
            <a:ext cx="4443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43280" y="3714840"/>
            <a:ext cx="642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9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4960" y="3429000"/>
            <a:ext cx="3767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7:35:10Z</dcterms:created>
  <dc:creator>Corporate Edition</dc:creator>
  <dc:description/>
  <dc:language>en-US</dc:language>
  <cp:lastModifiedBy>RomaK</cp:lastModifiedBy>
  <dcterms:modified xsi:type="dcterms:W3CDTF">2015-09-04T09:23:43Z</dcterms:modified>
  <cp:revision>53</cp:revision>
  <dc:subject/>
  <dc:title>Slide 1</dc:title>
</cp:coreProperties>
</file>